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5014-289A-4DFB-B157-F333781E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33C4-19C6-4A73-8A05-292640C7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0600-D63E-43CA-B1CE-2664C35E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E8F6-57B9-4218-B526-28144BC5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197F-6B0F-45F4-A157-936B7B37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2E93-B12E-4DC6-99BD-5624AD32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54EE-5B36-4A0C-B940-FA8F0471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CEFA-771A-4CAE-BC68-817F2ADE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2BD8-CEC3-45C0-96F8-B9D47A31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B9A8-AD5A-41FC-B5D9-45237D71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D68E-EC46-4983-9E36-1ADD6A47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077C-61FA-4769-9CF3-4FB135F3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D178-D16A-4BDC-9CBC-A86A95B2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33B9-E55A-49C7-84BF-17B31D48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537E-7BDB-4597-B1B0-73051031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C556-E57B-4793-9D3C-378FB903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48A8-7024-44F0-AC70-4897D135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B0F0-48C8-46F6-BA80-527C9AFB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D058-6715-47C3-955C-7719E7A4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86B2-4B57-4553-9D8A-A7F4E759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2B86-0E59-4850-A545-A963F251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0D30-CB8B-46B3-97BF-F369E462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4A3C-E5E9-466D-9AE5-5764A00F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132D-03CF-4EBC-BBAA-79D898D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FE70-26D7-42AF-B216-B462488C6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7CE6-D659-4C0A-86AC-64F3041B23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0920" y="1844280"/>
            <a:ext cx="784692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8000" spc="-1" strike="noStrike">
                <a:solidFill>
                  <a:srgbClr val="dfdef6"/>
                </a:solidFill>
                <a:latin typeface="Century Gothic"/>
              </a:rPr>
              <a:t>VEKTORIAI</a:t>
            </a:r>
            <a:br>
              <a:rPr sz="8000"/>
            </a:br>
            <a:r>
              <a:rPr b="1" lang="lt-LT" sz="8000" spc="-1" strike="noStrike">
                <a:solidFill>
                  <a:srgbClr val="dfdef6"/>
                </a:solidFill>
                <a:latin typeface="Century Gothic"/>
              </a:rPr>
              <a:t>PLOKŠTUMOJE</a:t>
            </a:r>
            <a:endParaRPr b="0" lang="en-US" sz="8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dfdef6"/>
                </a:solidFill>
                <a:latin typeface="Arial"/>
              </a:rPr>
              <a:t>VEKTORIŲ SUDĖTIES DĖSNIA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19080">
            <a:solidFill>
              <a:srgbClr val="ed1b0b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→  →   →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b = b +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sudėties perstatomumo dės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→  →    →  →    →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(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b) + c = a + (b + c)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su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dėties jungiamumo dės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→     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0 =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KTORI</a:t>
            </a: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Ų ATIMT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→  →   →     →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– b = a + (-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→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KTORI</a:t>
            </a: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Ų ATIMTIES TAISYKLĖ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– vektorių a ir b skirtum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vadinamas toks vektorius, kurio pradžia yra vektoriaus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pabaiga, o pabaiga – vektoriaus a pabaig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→                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                                                      a                 →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2.   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 -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b                 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5"/>
          <p:cNvSpPr/>
          <p:nvPr/>
        </p:nvSpPr>
        <p:spPr>
          <a:xfrm flipV="1">
            <a:off x="1258920" y="4652640"/>
            <a:ext cx="15843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1403280" y="5661000"/>
            <a:ext cx="100800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5292720" y="4508640"/>
            <a:ext cx="172728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9"/>
          <p:cNvSpPr/>
          <p:nvPr/>
        </p:nvSpPr>
        <p:spPr>
          <a:xfrm>
            <a:off x="5292720" y="5229360"/>
            <a:ext cx="136692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10"/>
          <p:cNvSpPr/>
          <p:nvPr/>
        </p:nvSpPr>
        <p:spPr>
          <a:xfrm flipV="1">
            <a:off x="6659640" y="4508640"/>
            <a:ext cx="36036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VEKTORIAUS DAUGYBA IŠ SKAIČIAU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Nenulinio vektoriaus a ir skaičiaus k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→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andauga vadinamas vektorius k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b,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urio ilg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→                     →      →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│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││a│; vektoriai a ir ka yra vienakrypčiai, kai k&gt;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iešpriešiai, kai k&lt;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šie vektoriai yra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olinearū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→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a                                     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 = - ½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4"/>
          <p:cNvSpPr/>
          <p:nvPr/>
        </p:nvSpPr>
        <p:spPr>
          <a:xfrm>
            <a:off x="4859280" y="5084640"/>
            <a:ext cx="22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 flipH="1">
            <a:off x="2268360" y="6093000"/>
            <a:ext cx="10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2268360" y="5084640"/>
            <a:ext cx="115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826920" y="4292640"/>
            <a:ext cx="6624720" cy="1944720"/>
          </a:xfrm>
          <a:prstGeom prst="rect">
            <a:avLst/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PAGRINDINĖS VEKTORIAUS IR SKAIČIAUS DAUGYBOS SAVYBĖ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08720"/>
          </a:xfrm>
          <a:prstGeom prst="rect">
            <a:avLst/>
          </a:prstGeom>
          <a:noFill/>
          <a:ln w="19080">
            <a:solidFill>
              <a:srgbClr val="ed1b0b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(kl)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k(la)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jungiamumo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dės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       →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(a + b) = ka + kb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( I skirstomumo dės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      →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k + l)a = ka + l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( II skirstomumo dės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→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1)a = 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VEKTORIAUS REIŠKIMAS KOORDINATINIAIS VEKTORIAI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→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lokštumos vektoriu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A =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šreiškiamas koordinatinia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0" lang="en-US" sz="2000" spc="-1" strike="noStrike">
                <a:solidFill>
                  <a:srgbClr val="ed1b0b"/>
                </a:solidFill>
                <a:latin typeface="Arial"/>
              </a:rPr>
              <a:t>→     →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→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vektoriais: </a:t>
            </a:r>
            <a:r>
              <a:rPr b="0" i="1" lang="en-US" sz="2000" spc="-1" strike="noStrike">
                <a:solidFill>
                  <a:srgbClr val="ed1b0b"/>
                </a:solidFill>
                <a:latin typeface="Arial"/>
              </a:rPr>
              <a:t>a = x i +y 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ed1b0b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yj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 →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a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            x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ektoriaus a koordinat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ė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j                          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1;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0;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- koordinatini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→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vektoriai (|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|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 | j |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0       →          →     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i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70"/>
          <p:cNvSpPr/>
          <p:nvPr/>
        </p:nvSpPr>
        <p:spPr>
          <a:xfrm flipV="1">
            <a:off x="1403280" y="2420640"/>
            <a:ext cx="0" cy="2592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71"/>
          <p:cNvSpPr/>
          <p:nvPr/>
        </p:nvSpPr>
        <p:spPr>
          <a:xfrm>
            <a:off x="1403280" y="5013360"/>
            <a:ext cx="2089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72"/>
          <p:cNvSpPr/>
          <p:nvPr/>
        </p:nvSpPr>
        <p:spPr>
          <a:xfrm flipV="1">
            <a:off x="1403280" y="3141360"/>
            <a:ext cx="1368360" cy="18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73"/>
          <p:cNvSpPr/>
          <p:nvPr/>
        </p:nvSpPr>
        <p:spPr>
          <a:xfrm flipH="1">
            <a:off x="1402920" y="3141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74"/>
          <p:cNvSpPr/>
          <p:nvPr/>
        </p:nvSpPr>
        <p:spPr>
          <a:xfrm>
            <a:off x="2771640" y="314172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75"/>
          <p:cNvSpPr/>
          <p:nvPr/>
        </p:nvSpPr>
        <p:spPr>
          <a:xfrm flipH="1">
            <a:off x="1116000" y="5013360"/>
            <a:ext cx="28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76"/>
          <p:cNvSpPr/>
          <p:nvPr/>
        </p:nvSpPr>
        <p:spPr>
          <a:xfrm>
            <a:off x="1403280" y="501336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77"/>
          <p:cNvSpPr/>
          <p:nvPr/>
        </p:nvSpPr>
        <p:spPr>
          <a:xfrm flipV="1">
            <a:off x="1403280" y="436536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78"/>
          <p:cNvSpPr/>
          <p:nvPr/>
        </p:nvSpPr>
        <p:spPr>
          <a:xfrm>
            <a:off x="1403280" y="5013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79"/>
          <p:cNvSpPr/>
          <p:nvPr/>
        </p:nvSpPr>
        <p:spPr>
          <a:xfrm flipV="1">
            <a:off x="1403280" y="3141360"/>
            <a:ext cx="0" cy="1081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80"/>
          <p:cNvSpPr/>
          <p:nvPr/>
        </p:nvSpPr>
        <p:spPr>
          <a:xfrm>
            <a:off x="2050920" y="5013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81"/>
          <p:cNvSpPr/>
          <p:nvPr/>
        </p:nvSpPr>
        <p:spPr>
          <a:xfrm>
            <a:off x="900000" y="2060640"/>
            <a:ext cx="3095640" cy="3744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5" dur="500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5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5" dur="500"/>
                                        <p:tgtEl>
                                          <p:spTgt spid="5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500"/>
                                        <p:tgtEl>
                                          <p:spTgt spid="5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5" dur="500"/>
                                        <p:tgtEl>
                                          <p:spTgt spid="5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KTORI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Ų SUMOS, SKIRTUMO, VEKTORIAUS IR SKAIČIAUS SANDAUGOS KOORDINATĖ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36000" cy="4533840"/>
          </a:xfrm>
          <a:prstGeom prst="rect">
            <a:avLst/>
          </a:prstGeom>
          <a:noFill/>
          <a:ln w="19080">
            <a:solidFill>
              <a:srgbClr val="ed1b0b"/>
            </a:solidFill>
            <a:miter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→  →                         → 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Vektoria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+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oordinat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ės, je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}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yra 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{</a:t>
            </a:r>
            <a:r>
              <a:rPr b="0" i="1" lang="lt-LT" sz="2400" spc="-1" strike="noStrike">
                <a:solidFill>
                  <a:srgbClr val="ed1b0b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+ x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; y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 + y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→  →                         → 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Vektoria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–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oordinat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ės, je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}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ra 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{</a:t>
            </a:r>
            <a:r>
              <a:rPr b="0" i="1" lang="lt-LT" sz="2400" spc="-1" strike="noStrike">
                <a:solidFill>
                  <a:srgbClr val="ed1b0b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1</a:t>
            </a:r>
            <a:r>
              <a:rPr b="0" i="1" lang="lt-LT" sz="2400" spc="-1" strike="noStrike">
                <a:solidFill>
                  <a:srgbClr val="ed1b0b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– x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; y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 – y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→               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koordinat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ės, je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x; 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, k – turimas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kaičiu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yra 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{</a:t>
            </a:r>
            <a:r>
              <a:rPr b="0" i="1" lang="lt-LT" sz="2400" spc="-1" strike="noStrike">
                <a:solidFill>
                  <a:srgbClr val="ed1b0b"/>
                </a:solidFill>
                <a:latin typeface="Arial"/>
              </a:rPr>
              <a:t>kx; ky}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5025960" y="1600200"/>
            <a:ext cx="3284640" cy="21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ktoriaus a {x; y} ilgį galima apskaičiuoti taikant formulę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14"/>
              <p:cNvSpPr txBox="1"/>
              <p:nvPr/>
            </p:nvSpPr>
            <p:spPr>
              <a:xfrm>
                <a:off x="3851280" y="2781360"/>
                <a:ext cx="2305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3" name="Rectangle 15"/>
          <p:cNvSpPr/>
          <p:nvPr/>
        </p:nvSpPr>
        <p:spPr>
          <a:xfrm>
            <a:off x="755640" y="1628640"/>
            <a:ext cx="8064360" cy="266400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→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viej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ų nenulinių plokštumos vektorių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ir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skaliarinė sandaug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- kampas tarp vektori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→       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Jei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{x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} ir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{x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}, tai jų skaliarinė sandauga išreiškiama formu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7"/>
              <p:cNvSpPr txBox="1"/>
              <p:nvPr/>
            </p:nvSpPr>
            <p:spPr>
              <a:xfrm>
                <a:off x="4356000" y="2637000"/>
                <a:ext cx="2876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14"/>
              <p:cNvSpPr txBox="1"/>
              <p:nvPr/>
            </p:nvSpPr>
            <p:spPr>
              <a:xfrm>
                <a:off x="4356000" y="4581360"/>
                <a:ext cx="3286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8" name="Rectangle 15"/>
          <p:cNvSpPr/>
          <p:nvPr/>
        </p:nvSpPr>
        <p:spPr>
          <a:xfrm>
            <a:off x="4356000" y="2637000"/>
            <a:ext cx="2880000" cy="86328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4356000" y="4581360"/>
            <a:ext cx="3311640" cy="64800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VEKTORIŲ SKALIARINĖS SANDAUGOS SAVYBĖ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→   →  →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a · a = |a|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vektoriaus skaliarinis kvadratas lygus to vektoriaus ilgio kvadratu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 →  →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· b = b ·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→   →      →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ka) · b = k (a · 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→   →  →   → →   →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 + c) · b = a · b + c ·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6"/>
          <p:cNvSpPr/>
          <p:nvPr/>
        </p:nvSpPr>
        <p:spPr>
          <a:xfrm>
            <a:off x="468360" y="1557360"/>
            <a:ext cx="8280360" cy="460836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2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7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2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7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2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7" dur="5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IEJ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Ų VEKTORIŲ STATMENUMO SĄLYGA – jei            ,tai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·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·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MPAS TARP VEKTOR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Ų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i kampas tarp j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ų krypči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8"/>
              <p:cNvSpPr txBox="1"/>
              <p:nvPr/>
            </p:nvSpPr>
            <p:spPr>
              <a:xfrm>
                <a:off x="3492360" y="2060640"/>
                <a:ext cx="1079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37"/>
              <p:cNvSpPr txBox="1"/>
              <p:nvPr/>
            </p:nvSpPr>
            <p:spPr>
              <a:xfrm>
                <a:off x="1042920" y="4437000"/>
                <a:ext cx="568980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7" name="Rectangle 38"/>
          <p:cNvSpPr/>
          <p:nvPr/>
        </p:nvSpPr>
        <p:spPr>
          <a:xfrm>
            <a:off x="3492360" y="2060640"/>
            <a:ext cx="1079640" cy="72072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39"/>
          <p:cNvSpPr/>
          <p:nvPr/>
        </p:nvSpPr>
        <p:spPr>
          <a:xfrm>
            <a:off x="1042920" y="4437000"/>
            <a:ext cx="5689800" cy="136836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KTORIUMI VADINAMA KRYPTIN</a:t>
            </a: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Ė ATKARPA T.Y. ATKARPA KURIOS NURODYTA PRADŽIA IR PABAIG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VIEJ</a:t>
            </a: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Ų NENULINIŲ VEKTORIŲ KOLINEARUMO POŽYMI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→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 vektoriai a ir b yra kolinear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ūs, jei egzistuoja t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realusis skaičius k ≠ 0, su kuriuo būtų teisinga lygyb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k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      →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i du plok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štumos vektoriai a {x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} ir b {x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} y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olinearūs,tai jų atitinkamos koordinatės y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oporcingos t.y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6"/>
              <p:cNvSpPr txBox="1"/>
              <p:nvPr/>
            </p:nvSpPr>
            <p:spPr>
              <a:xfrm>
                <a:off x="3564000" y="5373720"/>
                <a:ext cx="2592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2" name="Rectangle 7"/>
          <p:cNvSpPr/>
          <p:nvPr/>
        </p:nvSpPr>
        <p:spPr>
          <a:xfrm>
            <a:off x="539640" y="1557360"/>
            <a:ext cx="7993080" cy="496728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4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9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4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9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4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9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4" dur="500"/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9" dur="500"/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4" dur="500"/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KARPOS VIDURIO TAŠKO KOORDINATĖ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           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tkarpo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B vidu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io tašk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aško C koordinatė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(x;y)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randamos remian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formulėmi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x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5"/>
          <p:cNvSpPr/>
          <p:nvPr/>
        </p:nvSpPr>
        <p:spPr>
          <a:xfrm flipV="1">
            <a:off x="1187280" y="2420640"/>
            <a:ext cx="0" cy="3314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6"/>
          <p:cNvSpPr/>
          <p:nvPr/>
        </p:nvSpPr>
        <p:spPr>
          <a:xfrm>
            <a:off x="826920" y="5373720"/>
            <a:ext cx="2665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7" name="AutoShape 9"/>
          <p:cNvCxnSpPr/>
          <p:nvPr/>
        </p:nvCxnSpPr>
        <p:spPr>
          <a:xfrm>
            <a:off x="1476000" y="47239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38" name="AutoShape 10"/>
          <p:cNvCxnSpPr>
            <a:stCxn id="634" idx="1"/>
            <a:endCxn id="634" idx="1"/>
          </p:cNvCxnSpPr>
          <p:nvPr/>
        </p:nvCxnSpPr>
        <p:spPr>
          <a:xfrm>
            <a:off x="468000" y="38952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639" name="Line 12"/>
          <p:cNvSpPr/>
          <p:nvPr/>
        </p:nvSpPr>
        <p:spPr>
          <a:xfrm flipV="1">
            <a:off x="1547640" y="2781000"/>
            <a:ext cx="1656000" cy="2087640"/>
          </a:xfrm>
          <a:prstGeom prst="line">
            <a:avLst/>
          </a:prstGeom>
          <a:ln w="1908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15"/>
              <p:cNvSpPr txBox="1"/>
              <p:nvPr/>
            </p:nvSpPr>
            <p:spPr>
              <a:xfrm>
                <a:off x="4859280" y="4869000"/>
                <a:ext cx="1440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16"/>
              <p:cNvSpPr txBox="1"/>
              <p:nvPr/>
            </p:nvSpPr>
            <p:spPr>
              <a:xfrm>
                <a:off x="6659640" y="4869000"/>
                <a:ext cx="122400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2" name="Rectangle 18"/>
          <p:cNvSpPr/>
          <p:nvPr/>
        </p:nvSpPr>
        <p:spPr>
          <a:xfrm>
            <a:off x="611280" y="1989000"/>
            <a:ext cx="3816360" cy="403236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5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0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0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5" dur="5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5" dur="500"/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STUMAS TARP DVIEJŲ TAŠKŲ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– y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x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6"/>
          <p:cNvSpPr/>
          <p:nvPr/>
        </p:nvSpPr>
        <p:spPr>
          <a:xfrm flipV="1">
            <a:off x="1332000" y="2420640"/>
            <a:ext cx="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7"/>
          <p:cNvSpPr/>
          <p:nvPr/>
        </p:nvSpPr>
        <p:spPr>
          <a:xfrm>
            <a:off x="971640" y="5157720"/>
            <a:ext cx="3095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9"/>
          <p:cNvSpPr/>
          <p:nvPr/>
        </p:nvSpPr>
        <p:spPr>
          <a:xfrm>
            <a:off x="2124000" y="4149720"/>
            <a:ext cx="11527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10"/>
          <p:cNvSpPr/>
          <p:nvPr/>
        </p:nvSpPr>
        <p:spPr>
          <a:xfrm>
            <a:off x="3276720" y="2997360"/>
            <a:ext cx="0" cy="115236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13"/>
          <p:cNvSpPr/>
          <p:nvPr/>
        </p:nvSpPr>
        <p:spPr>
          <a:xfrm>
            <a:off x="3276720" y="400536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H="1">
            <a:off x="1332000" y="299736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V="1">
            <a:off x="3132000" y="4005000"/>
            <a:ext cx="0" cy="14436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6"/>
          <p:cNvSpPr/>
          <p:nvPr/>
        </p:nvSpPr>
        <p:spPr>
          <a:xfrm>
            <a:off x="3132000" y="4005360"/>
            <a:ext cx="1447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7"/>
          <p:cNvSpPr/>
          <p:nvPr/>
        </p:nvSpPr>
        <p:spPr>
          <a:xfrm flipV="1">
            <a:off x="2124000" y="2997000"/>
            <a:ext cx="1152720" cy="1152360"/>
          </a:xfrm>
          <a:prstGeom prst="line">
            <a:avLst/>
          </a:prstGeom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18"/>
          <p:cNvSpPr/>
          <p:nvPr/>
        </p:nvSpPr>
        <p:spPr>
          <a:xfrm>
            <a:off x="212400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9"/>
          <p:cNvSpPr/>
          <p:nvPr/>
        </p:nvSpPr>
        <p:spPr>
          <a:xfrm flipH="1">
            <a:off x="1332000" y="4149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20"/>
          <p:cNvSpPr/>
          <p:nvPr/>
        </p:nvSpPr>
        <p:spPr>
          <a:xfrm>
            <a:off x="755640" y="1700280"/>
            <a:ext cx="3816360" cy="410508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25"/>
              <p:cNvSpPr txBox="1"/>
              <p:nvPr/>
            </p:nvSpPr>
            <p:spPr>
              <a:xfrm>
                <a:off x="4716360" y="2205000"/>
                <a:ext cx="4319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8" name="Line 26"/>
          <p:cNvSpPr/>
          <p:nvPr/>
        </p:nvSpPr>
        <p:spPr>
          <a:xfrm>
            <a:off x="5292720" y="2349360"/>
            <a:ext cx="0" cy="57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28"/>
          <p:cNvSpPr/>
          <p:nvPr/>
        </p:nvSpPr>
        <p:spPr>
          <a:xfrm>
            <a:off x="4788000" y="2349360"/>
            <a:ext cx="0" cy="57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29"/>
          <p:cNvSpPr/>
          <p:nvPr/>
        </p:nvSpPr>
        <p:spPr>
          <a:xfrm>
            <a:off x="4859280" y="2421000"/>
            <a:ext cx="3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6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1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6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1" dur="5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lt-LT" sz="6600" spc="-1" strike="noStrike">
                <a:solidFill>
                  <a:srgbClr val="ffffff"/>
                </a:solidFill>
                <a:latin typeface="Arial"/>
              </a:rPr>
              <a:t>ĖKMĖS MOKANTIS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rengė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3200"/>
            </a:b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l. gimnazistė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aškas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yra vektoriaus pradž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aškas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yra vektoriaus pabai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ktorius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žymimas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A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        →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             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B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pindulio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kryptis vadin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    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a                                               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→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                    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vektoriaus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krypt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A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Atkarpos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ilgis yra vektori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                                         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→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ilg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4"/>
          <p:cNvSpPr/>
          <p:nvPr/>
        </p:nvSpPr>
        <p:spPr>
          <a:xfrm flipV="1">
            <a:off x="900000" y="3141720"/>
            <a:ext cx="2629080" cy="1714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5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1" name="Organization Chart 8"/>
          <p:cNvGrpSpPr/>
          <p:nvPr/>
        </p:nvGrpSpPr>
        <p:grpSpPr>
          <a:xfrm>
            <a:off x="1539720" y="1033560"/>
            <a:ext cx="6469200" cy="4468680"/>
            <a:chOff x="1539720" y="1033560"/>
            <a:chExt cx="6469200" cy="4468680"/>
          </a:xfrm>
        </p:grpSpPr>
        <p:cxnSp>
          <p:nvCxnSpPr>
            <p:cNvPr id="522" name="_s1028"/>
            <p:cNvCxnSpPr>
              <a:stCxn id="523" idx="0"/>
              <a:endCxn id="524" idx="2"/>
            </p:cNvCxnSpPr>
            <p:nvPr/>
          </p:nvCxnSpPr>
          <p:spPr>
            <a:xfrm flipH="1" flipV="1" rot="5400000">
              <a:off x="4659840" y="345636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5" name="_s1029"/>
            <p:cNvCxnSpPr>
              <a:stCxn id="526" idx="0"/>
              <a:endCxn id="527" idx="2"/>
            </p:cNvCxnSpPr>
            <p:nvPr/>
          </p:nvCxnSpPr>
          <p:spPr>
            <a:xfrm flipH="1" flipV="1" rot="5400000">
              <a:off x="2448360" y="3456000"/>
              <a:ext cx="2293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8" name="_s1030"/>
            <p:cNvCxnSpPr>
              <a:stCxn id="529" idx="0"/>
              <a:endCxn id="530" idx="2"/>
            </p:cNvCxnSpPr>
            <p:nvPr/>
          </p:nvCxnSpPr>
          <p:spPr>
            <a:xfrm flipV="1" rot="16200000">
              <a:off x="5765040" y="726480"/>
              <a:ext cx="229320" cy="2213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1031"/>
            <p:cNvCxnSpPr>
              <a:stCxn id="524" idx="0"/>
              <a:endCxn id="530" idx="2"/>
            </p:cNvCxnSpPr>
            <p:nvPr/>
          </p:nvCxnSpPr>
          <p:spPr>
            <a:xfrm flipV="1" rot="16200000">
              <a:off x="4659480" y="183204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2" name="_s1032"/>
            <p:cNvCxnSpPr>
              <a:stCxn id="527" idx="0"/>
              <a:endCxn id="530" idx="2"/>
            </p:cNvCxnSpPr>
            <p:nvPr/>
          </p:nvCxnSpPr>
          <p:spPr>
            <a:xfrm flipH="1" flipV="1" rot="5400000">
              <a:off x="3554280" y="728280"/>
              <a:ext cx="229320" cy="2210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0" name="_s1033"/>
            <p:cNvSpPr/>
            <p:nvPr/>
          </p:nvSpPr>
          <p:spPr>
            <a:xfrm>
              <a:off x="2638440" y="1033560"/>
              <a:ext cx="4270320" cy="6858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VEKTORIŲ RŪŠY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1034"/>
            <p:cNvSpPr/>
            <p:nvPr/>
          </p:nvSpPr>
          <p:spPr>
            <a:xfrm>
              <a:off x="1539720" y="1947960"/>
              <a:ext cx="2046600" cy="139536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LINIAI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KTORIA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1035"/>
            <p:cNvSpPr/>
            <p:nvPr/>
          </p:nvSpPr>
          <p:spPr>
            <a:xfrm>
              <a:off x="3751200" y="1947960"/>
              <a:ext cx="2046240" cy="139536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ENETINIA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KTORIA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1036"/>
            <p:cNvSpPr/>
            <p:nvPr/>
          </p:nvSpPr>
          <p:spPr>
            <a:xfrm>
              <a:off x="5962680" y="1947960"/>
              <a:ext cx="2046240" cy="139536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OLINEARIEJ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KTORIA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1037"/>
            <p:cNvSpPr/>
            <p:nvPr/>
          </p:nvSpPr>
          <p:spPr>
            <a:xfrm>
              <a:off x="1541520" y="3571920"/>
              <a:ext cx="2041560" cy="1930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ADŽI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TA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 PABAIGA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ŽYMIMAS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RBA 0.ILG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YGUS NULIUI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1038"/>
            <p:cNvSpPr/>
            <p:nvPr/>
          </p:nvSpPr>
          <p:spPr>
            <a:xfrm>
              <a:off x="3753000" y="3571920"/>
              <a:ext cx="2041200" cy="1930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LGIS LYG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ENETUI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cxnSp>
        <p:nvCxnSpPr>
          <p:cNvPr id="534" name="AutoShape 4"/>
          <p:cNvCxnSpPr/>
          <p:nvPr/>
        </p:nvCxnSpPr>
        <p:spPr>
          <a:xfrm>
            <a:off x="468000" y="38239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535" name="Organization Chart 27"/>
          <p:cNvGrpSpPr/>
          <p:nvPr/>
        </p:nvGrpSpPr>
        <p:grpSpPr>
          <a:xfrm>
            <a:off x="385920" y="231480"/>
            <a:ext cx="8828280" cy="5676120"/>
            <a:chOff x="385920" y="231480"/>
            <a:chExt cx="8828280" cy="5676120"/>
          </a:xfrm>
        </p:grpSpPr>
        <p:cxnSp>
          <p:nvCxnSpPr>
            <p:cNvPr id="536" name="_s2052"/>
            <p:cNvCxnSpPr>
              <a:stCxn id="537" idx="0"/>
              <a:endCxn id="538" idx="2"/>
            </p:cNvCxnSpPr>
            <p:nvPr/>
          </p:nvCxnSpPr>
          <p:spPr>
            <a:xfrm flipH="1" flipV="1" rot="5400000">
              <a:off x="7112520" y="5486400"/>
              <a:ext cx="111600" cy="4680"/>
            </a:xfrm>
            <a:prstGeom prst="bentConnector3">
              <a:avLst>
                <a:gd name="adj1" fmla="val 498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9" name="_s2053"/>
            <p:cNvCxnSpPr>
              <a:stCxn id="540" idx="0"/>
              <a:endCxn id="541" idx="2"/>
            </p:cNvCxnSpPr>
            <p:nvPr/>
          </p:nvCxnSpPr>
          <p:spPr>
            <a:xfrm flipH="1" flipV="1" rot="5400000">
              <a:off x="2384640" y="5486400"/>
              <a:ext cx="111600" cy="4680"/>
            </a:xfrm>
            <a:prstGeom prst="bentConnector3">
              <a:avLst>
                <a:gd name="adj1" fmla="val 498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2" name="_s2054"/>
            <p:cNvCxnSpPr>
              <a:stCxn id="543" idx="3"/>
              <a:endCxn id="544" idx="2"/>
            </p:cNvCxnSpPr>
            <p:nvPr/>
          </p:nvCxnSpPr>
          <p:spPr>
            <a:xfrm flipV="1">
              <a:off x="4170600" y="1575720"/>
              <a:ext cx="635760" cy="102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5" name="_s2055"/>
            <p:cNvCxnSpPr>
              <a:stCxn id="538" idx="0"/>
              <a:endCxn id="544" idx="2"/>
            </p:cNvCxnSpPr>
            <p:nvPr/>
          </p:nvCxnSpPr>
          <p:spPr>
            <a:xfrm flipV="1" rot="16200000">
              <a:off x="4965120" y="1416600"/>
              <a:ext cx="2042280" cy="2360520"/>
            </a:xfrm>
            <a:prstGeom prst="bentConnector3">
              <a:avLst>
                <a:gd name="adj1" fmla="val 55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6" name="_s2056"/>
            <p:cNvCxnSpPr>
              <a:stCxn id="541" idx="0"/>
              <a:endCxn id="544" idx="2"/>
            </p:cNvCxnSpPr>
            <p:nvPr/>
          </p:nvCxnSpPr>
          <p:spPr>
            <a:xfrm flipH="1" flipV="1" rot="5400000">
              <a:off x="2603520" y="1414800"/>
              <a:ext cx="2042280" cy="2364480"/>
            </a:xfrm>
            <a:prstGeom prst="bentConnector3">
              <a:avLst>
                <a:gd name="adj1" fmla="val 55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4" name="_s2057"/>
            <p:cNvSpPr/>
            <p:nvPr/>
          </p:nvSpPr>
          <p:spPr>
            <a:xfrm>
              <a:off x="2908080" y="231480"/>
              <a:ext cx="3792960" cy="134460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OLINEARIEJI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KTORIA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2058"/>
            <p:cNvSpPr/>
            <p:nvPr/>
          </p:nvSpPr>
          <p:spPr>
            <a:xfrm>
              <a:off x="547920" y="3617280"/>
              <a:ext cx="3785040" cy="1816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IENAKRYPČIA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ŽYMIMA a ⁭⁭ ⁭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2059"/>
            <p:cNvSpPr/>
            <p:nvPr/>
          </p:nvSpPr>
          <p:spPr>
            <a:xfrm>
              <a:off x="5276160" y="3617280"/>
              <a:ext cx="3785040" cy="1816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IEŠPRIEŠIA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ŽYMIMA c ↓↑ 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2060"/>
            <p:cNvSpPr/>
            <p:nvPr/>
          </p:nvSpPr>
          <p:spPr>
            <a:xfrm>
              <a:off x="385920" y="1688760"/>
              <a:ext cx="3785040" cy="181620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U NENULINIAI VEKTORIAI, KURI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YRA VIENOJE TIESĖJE ARB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YGIAGRAČIOSE TIESĖSE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2061"/>
            <p:cNvSpPr/>
            <p:nvPr/>
          </p:nvSpPr>
          <p:spPr>
            <a:xfrm>
              <a:off x="390600" y="5545800"/>
              <a:ext cx="4095360" cy="3618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dinami LYGIAIS, jei jų ilgiai vienod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2062"/>
            <p:cNvSpPr/>
            <p:nvPr/>
          </p:nvSpPr>
          <p:spPr>
            <a:xfrm>
              <a:off x="5117760" y="5545800"/>
              <a:ext cx="4096440" cy="3618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dinami PRIEŠINGAIS, jei jų ilgiai vienod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Line 40"/>
          <p:cNvSpPr/>
          <p:nvPr/>
        </p:nvSpPr>
        <p:spPr>
          <a:xfrm flipV="1">
            <a:off x="2771640" y="3860280"/>
            <a:ext cx="936720" cy="28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41"/>
          <p:cNvSpPr/>
          <p:nvPr/>
        </p:nvSpPr>
        <p:spPr>
          <a:xfrm flipV="1">
            <a:off x="3059280" y="4365360"/>
            <a:ext cx="64764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42"/>
          <p:cNvSpPr/>
          <p:nvPr/>
        </p:nvSpPr>
        <p:spPr>
          <a:xfrm>
            <a:off x="7308720" y="4149720"/>
            <a:ext cx="93672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43"/>
          <p:cNvSpPr/>
          <p:nvPr/>
        </p:nvSpPr>
        <p:spPr>
          <a:xfrm flipH="1" flipV="1">
            <a:off x="7380360" y="3789000"/>
            <a:ext cx="79200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Arial"/>
              </a:rPr>
              <a:t>VEKTORIŲ SUDĖTIS</a:t>
            </a: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DVIEJŲ VEKTORIŲ SUDĖTIES TRIKAMP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→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TAISYKLĖ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– vektorių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ir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suma vadinamas t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→                                                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vektorius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kurio pradžia sutampa su vektoriaus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adžia, o pabaiga – su vektoriaus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pabai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vyzd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2.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 →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           →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= a +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           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→                      →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                      b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4"/>
          <p:cNvSpPr/>
          <p:nvPr/>
        </p:nvSpPr>
        <p:spPr>
          <a:xfrm>
            <a:off x="611280" y="3357720"/>
            <a:ext cx="2233440" cy="151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5"/>
          <p:cNvSpPr/>
          <p:nvPr/>
        </p:nvSpPr>
        <p:spPr>
          <a:xfrm flipV="1">
            <a:off x="3059280" y="3499920"/>
            <a:ext cx="1008000" cy="938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6"/>
          <p:cNvSpPr/>
          <p:nvPr/>
        </p:nvSpPr>
        <p:spPr>
          <a:xfrm>
            <a:off x="4859280" y="3500280"/>
            <a:ext cx="2305080" cy="136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>
            <a:off x="4859280" y="3500280"/>
            <a:ext cx="32418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 flipV="1">
            <a:off x="7164360" y="3860280"/>
            <a:ext cx="936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539640" y="1773360"/>
            <a:ext cx="7993080" cy="410364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LYGIAGRETAINIO TAISYKLĖ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– dviejų nekolineari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→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vektorių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ir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suma yra vektorius, vaizduoj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lygiagretainio, kurio dvi gretimos kraštinės y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→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vektoriai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ir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, įstrižaine, einančia iš minėtų vektori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endros pradž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7"/>
          <p:cNvSpPr/>
          <p:nvPr/>
        </p:nvSpPr>
        <p:spPr>
          <a:xfrm>
            <a:off x="4859280" y="51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13"/>
          <p:cNvSpPr/>
          <p:nvPr/>
        </p:nvSpPr>
        <p:spPr>
          <a:xfrm>
            <a:off x="7812000" y="450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vyzd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                                  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→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          </a:t>
            </a:r>
            <a:r>
              <a:rPr b="0" lang="en-US" sz="2800" spc="-1" strike="noStrike">
                <a:solidFill>
                  <a:srgbClr val="ed1b0b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800" spc="-1" strike="noStrike">
                <a:solidFill>
                  <a:srgbClr val="ed1b0b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→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5"/>
          <p:cNvSpPr/>
          <p:nvPr/>
        </p:nvSpPr>
        <p:spPr>
          <a:xfrm>
            <a:off x="1403280" y="4869000"/>
            <a:ext cx="187164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7"/>
          <p:cNvSpPr/>
          <p:nvPr/>
        </p:nvSpPr>
        <p:spPr>
          <a:xfrm>
            <a:off x="4572000" y="4941720"/>
            <a:ext cx="194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0"/>
          <p:cNvSpPr/>
          <p:nvPr/>
        </p:nvSpPr>
        <p:spPr>
          <a:xfrm flipV="1">
            <a:off x="6588000" y="2924280"/>
            <a:ext cx="1944720" cy="712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20"/>
          <p:cNvSpPr/>
          <p:nvPr/>
        </p:nvSpPr>
        <p:spPr>
          <a:xfrm flipV="1">
            <a:off x="4572000" y="2997000"/>
            <a:ext cx="2016000" cy="19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21"/>
          <p:cNvSpPr/>
          <p:nvPr/>
        </p:nvSpPr>
        <p:spPr>
          <a:xfrm flipV="1">
            <a:off x="6516720" y="2924280"/>
            <a:ext cx="2016000" cy="2017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22"/>
          <p:cNvSpPr/>
          <p:nvPr/>
        </p:nvSpPr>
        <p:spPr>
          <a:xfrm flipV="1">
            <a:off x="4572000" y="2924280"/>
            <a:ext cx="3960720" cy="2017440"/>
          </a:xfrm>
          <a:prstGeom prst="line">
            <a:avLst/>
          </a:prstGeom>
          <a:ln w="38160">
            <a:solidFill>
              <a:srgbClr val="ed1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24"/>
          <p:cNvSpPr/>
          <p:nvPr/>
        </p:nvSpPr>
        <p:spPr>
          <a:xfrm flipV="1">
            <a:off x="1187280" y="2565360"/>
            <a:ext cx="1872000" cy="194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5"/>
          <p:cNvSpPr/>
          <p:nvPr/>
        </p:nvSpPr>
        <p:spPr>
          <a:xfrm>
            <a:off x="755640" y="1773360"/>
            <a:ext cx="7993080" cy="446400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13:23:09Z</dcterms:created>
  <dc:creator>Fredis</dc:creator>
  <dc:description/>
  <dc:language>en-US</dc:language>
  <cp:lastModifiedBy>Ilona</cp:lastModifiedBy>
  <dcterms:modified xsi:type="dcterms:W3CDTF">2011-03-20T09:35:32Z</dcterms:modified>
  <cp:revision>42</cp:revision>
  <dc:subject/>
  <dc:title>VEKTORIAI PLOKŠTUMOJE</dc:title>
</cp:coreProperties>
</file>